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370-2EF2-4486-A59C-6E0C9009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4C9-7D58-4485-8216-11DEFC15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39D-0F41-464D-8A6B-C83E6126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6F4-D590-4D13-805B-DD58A4D0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253-6AC5-493A-9520-15B050C4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6E1-EBA5-4FAC-8F79-7795F47B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618-D36C-43CF-89E0-76F1AC7E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E5B-0475-4FF9-91E9-F84CB2D7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728-501A-4762-986C-1D5BD6E5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3AC-1A94-4F51-B055-C4611A4D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E46-D613-41DC-8150-38731FC9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38C-1547-44B2-A4B0-B143C23C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AF3-27E2-4385-A7CF-21ADB6E46E6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3 Keď smieš z Božej mil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mieš z Božej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avý ráno vstá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je dôvod k rad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lu Bohu vzdá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d tebou s láskou bd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ti silu d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ím verným strážcom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ťa požehn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ťa trápi bolesť, žiaľ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iech ťa k zemi tlač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cť môže nebies Krá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 všetko stač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eho pevnú vieru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jeho pomoc dúf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dlitbou mu chválu vz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iu vôľu skúm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pred s Pánom vykročí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ím verne pôjd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avy mať nemusí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iste dôjd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tu chce ťa oblaž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žehnaním svoj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s ním budeš večne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je vodcom tvojí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20:31:15Z</dcterms:modified>
  <cp:revision>65</cp:revision>
  <dc:subject/>
  <dc:title>Je veľký náš Pán, on slávy je Kráľ Nech do všetkých strán  spev vrúcnych znie chvál.</dc:title>
</cp:coreProperties>
</file>